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CEE2-C411-433F-A41A-AD8E14B528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9D3C-2EA7-4F8D-894F-94F78DD5B62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CEAF-E9E2-4D85-B0DC-A157CF3BB02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CAFB-F3F8-463E-AF29-83B555137FF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1732-86C5-4168-867D-4CC791D67DF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DC29-6522-44ED-9FC8-A859112FA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EC12-8E08-4238-AFA3-77E34D82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CEF6-B4C0-4103-B943-3AB30D226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22FD-B0E4-4D59-9B39-05B12AECE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482B-06CC-4B21-B564-A1232C91E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BE00-6F56-4802-8FB1-8C330DFD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0E6F-4998-4084-B84F-374247DF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40F4-9C0B-484F-B8DF-FAA0D187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C1C2-05F5-45EA-8C7E-B444F25B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13C6-8825-490E-B068-F989D0DB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8B91-971C-4CC6-8CD6-B8E59495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E9D1-F8E6-4EF5-A671-D4526ACB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9514-753F-4D72-B920-EA71286C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CD0E-3356-48CB-A303-FF16E59F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94D0-D929-4F42-842D-228B8861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985E-1BE5-41DA-BBFD-3CB780D8C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DBE4-747D-4571-B976-28D6ABE5B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48B7-0EA3-41B8-84F3-181E8DD7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D075-AB38-4EE0-9504-D7A3B002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ED3E-D577-4191-A104-30EB247B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CB0F-02D8-4CF2-A4B1-BD4CCA1E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9F65-257B-4283-8FF2-2F8E4490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30DD-402E-4129-9D51-B3E18D00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6AC7-618C-4C43-8D63-176C650A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0926-6138-41B8-A741-0FF82B8B513A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42F0-7BC9-4DEE-A9A4-127598331C6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ru.wikipedia.org/wiki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kraftwerk-tourdefrance"/>
          <p:cNvPicPr/>
          <p:nvPr/>
        </p:nvPicPr>
        <p:blipFill>
          <a:blip r:embed="rId1"/>
          <a:stretch/>
        </p:blipFill>
        <p:spPr>
          <a:xfrm>
            <a:off x="108000" y="115920"/>
            <a:ext cx="4248000" cy="4248000"/>
          </a:xfrm>
          <a:prstGeom prst="rect">
            <a:avLst/>
          </a:prstGeom>
          <a:ln w="0">
            <a:noFill/>
          </a:ln>
        </p:spPr>
      </p:pic>
      <p:pic>
        <p:nvPicPr>
          <p:cNvPr id="90" name="Заголовок 1" descr=""/>
          <p:cNvPicPr/>
          <p:nvPr/>
        </p:nvPicPr>
        <p:blipFill>
          <a:blip r:embed="rId2"/>
          <a:stretch/>
        </p:blipFill>
        <p:spPr>
          <a:xfrm>
            <a:off x="615960" y="1987560"/>
            <a:ext cx="8242200" cy="20541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роект для учащихся 10-11 классо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огатить знания учащихся по страноведению  Франци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ширить кругозор учащихс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вить любовь к спорт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5" descr="85067"/>
          <p:cNvPicPr/>
          <p:nvPr/>
        </p:nvPicPr>
        <p:blipFill>
          <a:blip r:embed="rId2"/>
          <a:stretch/>
        </p:blipFill>
        <p:spPr>
          <a:xfrm>
            <a:off x="4572000" y="3933720"/>
            <a:ext cx="4068720" cy="27669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274680" y="96840"/>
            <a:ext cx="8686800" cy="1446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 началась история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Tour de France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овы основные принципы велогонк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торию призовых маек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ультурные традици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 некоторые интересные факт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ректорах гонок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егендарных участниках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бедителях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усских гонщик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3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На создание проекта ученикам даётся 6-8 часов. Из них 1 или 2 часа на поиск информации, 2-3 часа на создание и 1-2 часа на защиту проекта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кла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следовательской рабо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зента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оторепортаж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енгазе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ведения викторины среди одноклассников по данной тем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tdf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357336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Bonne</a:t>
            </a:r>
            <a:r>
              <a:rPr b="0" lang="en-US" sz="8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chance!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2d700"/>
                </a:solidFill>
                <a:uFillTx/>
                <a:latin typeface="Times New Roman"/>
                <a:hlinkClick r:id="rId2"/>
              </a:rPr>
              <a:t>http://ru.wikipedia.org/wiki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http://www.eventguide.ru/event/1070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http://blog.ebike.ru/wps/2008/02/20/istoriya-tur-de-frans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удентка 428 группы факультета иностранных языков КГПИ Холопова Ольг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я</cp:lastModifiedBy>
  <dcterms:modified xsi:type="dcterms:W3CDTF">2009-10-25T15:24:02Z</dcterms:modified>
  <cp:revision>14</cp:revision>
  <dc:subject/>
  <dc:title>Le tour de france</dc:title>
</cp:coreProperties>
</file>